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F74-EE38-4A95-8ABF-BEAF928E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873-60A6-48AD-B4FD-B5D91D49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ED98-F4DE-4CCA-B00F-44C32057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72B-05DA-4FC4-97F1-3CE31125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53D4-9182-4CC9-973F-FE85857A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A423-7F23-4D8F-8A8D-02C784A5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9CE5-4E64-4B9C-96F1-02877040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4352-5A11-4BE0-A113-2CF01D1C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BBE0-49FC-4B16-8CB1-F6ADC463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D344-D426-48F0-BFDE-C65B81AC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B2BD-0BFA-4C7D-B964-670F96E8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8C4-685F-4487-AC86-5769D0A9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F501-E704-485B-82DE-FE52B608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B9AA-75F9-438D-923D-52B97AD0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A942-7DD5-4481-B5CD-18511EBF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F8E7-7305-4E8D-B85F-20C94C3A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6F53-BF2B-4B8D-8DF3-113103E8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7DF-58AC-433F-BC70-959C4D79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82B-3B9D-427A-9810-E261C37F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417-F376-4DC9-AB4A-1A5F19FC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A94B-73D9-44FD-AB1B-E3E4285D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10E9-9116-4888-92AC-37EE9C04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50E-5230-499B-BD75-BFA53CE4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03B0-8BCD-45D0-A623-726DF68D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EF75-5F5E-4B8D-A339-F3208EBB9DBB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5132-EA46-4FFD-A459-9486CFCBA0CE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678168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100" spc="-1" strike="noStrike">
                <a:solidFill>
                  <a:srgbClr val="330066"/>
                </a:solidFill>
                <a:latin typeface="Arial"/>
              </a:rPr>
              <a:t>Twierdzenie sinusów</a:t>
            </a:r>
            <a:endParaRPr b="1" lang="en-US" sz="5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7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3313080" cy="31068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00360" y="122400"/>
            <a:ext cx="3500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Twierdzenie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11280" y="177336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 dowolnym trójkącie stosunek długości boku do sinusa kąta przeciwległego jest wielkością stałą i  równą średnicy okręgu opisanego na tym trójką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0" y="28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7"/>
              <p:cNvSpPr txBox="1"/>
              <p:nvPr/>
            </p:nvSpPr>
            <p:spPr>
              <a:xfrm>
                <a:off x="3419640" y="3933720"/>
                <a:ext cx="531792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42920" y="122400"/>
            <a:ext cx="3357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Dowód cz.1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2664000" cy="24969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4788000" y="2492280"/>
                <a:ext cx="294300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7"/>
          <p:cNvSpPr/>
          <p:nvPr/>
        </p:nvSpPr>
        <p:spPr>
          <a:xfrm>
            <a:off x="2843280" y="177336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rzystamy z następującego wzoru na pole trójką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39640" y="3357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równujemy dwa dowolne pola trójkątów wykorzystując powyższy wzó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2556000" y="4221000"/>
                <a:ext cx="39812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12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3276720" y="5229360"/>
                <a:ext cx="2533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14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3"/>
              <p:cNvSpPr txBox="1"/>
              <p:nvPr/>
            </p:nvSpPr>
            <p:spPr>
              <a:xfrm>
                <a:off x="3564000" y="5661000"/>
                <a:ext cx="19620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42920" y="122400"/>
            <a:ext cx="3357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Dowód cz.2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7"/>
              <p:cNvSpPr txBox="1"/>
              <p:nvPr/>
            </p:nvSpPr>
            <p:spPr>
              <a:xfrm>
                <a:off x="338040" y="1197000"/>
                <a:ext cx="39513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8"/>
              <p:cNvSpPr txBox="1"/>
              <p:nvPr/>
            </p:nvSpPr>
            <p:spPr>
              <a:xfrm>
                <a:off x="1085760" y="2060640"/>
                <a:ext cx="24465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9"/>
              <p:cNvSpPr txBox="1"/>
              <p:nvPr/>
            </p:nvSpPr>
            <p:spPr>
              <a:xfrm>
                <a:off x="1360440" y="2565360"/>
                <a:ext cx="190512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Text Box 21"/>
          <p:cNvSpPr/>
          <p:nvPr/>
        </p:nvSpPr>
        <p:spPr>
          <a:xfrm>
            <a:off x="250920" y="357336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rzystając ze wzorów sinusa w trójkącie oraz z własności kąta środkowego i wpisanego, wie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2"/>
              <p:cNvSpPr txBox="1"/>
              <p:nvPr/>
            </p:nvSpPr>
            <p:spPr>
              <a:xfrm>
                <a:off x="826920" y="5157720"/>
                <a:ext cx="148608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3" name="Picture 24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36273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330066"/>
                </a:solidFill>
                <a:latin typeface="Arial"/>
              </a:rPr>
              <a:t>Dowód cz.3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Picture 10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3024000" cy="24321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2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1"/>
              <p:cNvSpPr txBox="1"/>
              <p:nvPr/>
            </p:nvSpPr>
            <p:spPr>
              <a:xfrm>
                <a:off x="611280" y="1197000"/>
                <a:ext cx="1828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Rectangle 14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3"/>
              <p:cNvSpPr txBox="1"/>
              <p:nvPr/>
            </p:nvSpPr>
            <p:spPr>
              <a:xfrm>
                <a:off x="539640" y="2276640"/>
                <a:ext cx="18288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Rectangle 16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5"/>
              <p:cNvSpPr txBox="1"/>
              <p:nvPr/>
            </p:nvSpPr>
            <p:spPr>
              <a:xfrm>
                <a:off x="539640" y="2852640"/>
                <a:ext cx="16480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Text Box 17"/>
          <p:cNvSpPr/>
          <p:nvPr/>
        </p:nvSpPr>
        <p:spPr>
          <a:xfrm>
            <a:off x="468360" y="3933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8"/>
              <p:cNvSpPr txBox="1"/>
              <p:nvPr/>
            </p:nvSpPr>
            <p:spPr>
              <a:xfrm>
                <a:off x="900000" y="4508640"/>
                <a:ext cx="511200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1:22:23Z</dcterms:created>
  <dc:creator>_foxx</dc:creator>
  <dc:description/>
  <dc:language>en-US</dc:language>
  <cp:lastModifiedBy>AP</cp:lastModifiedBy>
  <dcterms:modified xsi:type="dcterms:W3CDTF">2015-04-07T03:35:13Z</dcterms:modified>
  <cp:revision>14</cp:revision>
  <dc:subject/>
  <dc:title>Twierdzenie sinusów</dc:title>
</cp:coreProperties>
</file>